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95C-92A9-47CE-A5EC-5948E4D9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471-A0F8-45AF-A388-DAE1E128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BC7-9292-48ED-A367-A6157ADB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0D7-B86A-4295-9DD0-5954384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878-DF3A-4ACF-8244-4B6A5C87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2AB-E763-4D64-8B8C-7CCE1FE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158-5079-4557-B1ED-740410B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33A-AF87-4B0D-9C33-85754F8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D32-BD6D-4CC3-8383-0ABF61D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377-A977-47B6-9DC5-81E0EE3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DDD-61E9-4079-9E99-41F3D81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9CC-C305-4449-95F6-08119B2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515-EA9B-4E82-9C7A-9EE16570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215561trgpRaNsdy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مالي سواك ياسيدي       حياتي رض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        أنت مُتّكَلي .... تُطَمئِنُ نفسي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6457ZyMZbofv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     نفس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تُفرِّح قلبي  ...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َرتَ لي درب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138657fOyBjnytPv_ph" descr=""/>
          <p:cNvPicPr/>
          <p:nvPr/>
        </p:nvPicPr>
        <p:blipFill>
          <a:blip r:embed="rId1"/>
          <a:stretch/>
        </p:blipFill>
        <p:spPr>
          <a:xfrm>
            <a:off x="-19810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0"/>
            <a:ext cx="1676160" cy="9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Arabic Transparent"/>
              </a:rPr>
              <a:t>حينما ألقاك يا سيدي       عذبٌ ما أح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ea typeface="Arabic Transparent"/>
              </a:rPr>
              <a:t>        تُبَدِّدُ همّي  ..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Times New Roman"/>
              </a:rPr>
              <a:t>تُفَرِّجُ ع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905120"/>
            <a:ext cx="32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سط الأشواك يا سيدي عينيَّ تراك يا سيدي      تُضَمِّدُ جُرحي ...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ُجدِّدُ فَرَ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25780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نفسي في حماك يا سيدي    عيني لعُلاك يا س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     قوَّتي حبَّك ...  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صخرتي وعد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29:42Z</dcterms:created>
  <dc:creator>SUZANNE.MD</dc:creator>
  <dc:description/>
  <dc:language>en-US</dc:language>
  <cp:lastModifiedBy>USER</cp:lastModifiedBy>
  <dcterms:modified xsi:type="dcterms:W3CDTF">2002-12-12T16:02:34Z</dcterms:modified>
  <cp:revision>2</cp:revision>
  <dc:subject/>
  <dc:title>PowerPoint Presentation</dc:title>
</cp:coreProperties>
</file>